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4E0-4606-4EB5-9D53-258E9B1F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B51-206A-41A5-8E23-63368C94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A2F-04A1-4E4F-92BC-1D8D1D01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116-E6F4-48E6-BF5E-5EC6C379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3FE-145E-4A35-A479-0FCE0414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414-7B10-4981-88FF-7D7FFB81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B98-89E4-4981-B330-9BE2AE6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A8A-0BCF-441D-86CC-E349247E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0B1-B44B-46AC-8747-B0E2B9E9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790-D5C1-4381-967A-18B7266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A1B-8A9D-428A-9D3D-141C512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901-575C-434A-938E-92F283C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F07B-D862-4735-AF0F-C096D720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Subject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lly played on my tea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33520" y="32004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on my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lly and Bess painted a pic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and B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ELLY AND B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lly and B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inted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12193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mother and her friend had a par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22860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867280" y="22860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and h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33520" y="3886200"/>
            <a:ext cx="8229600" cy="18406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MOTHER AND HE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mother and her fri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d a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OMPLETE THE INDEPENDENT PRACTICE HANDOU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ittens pur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274176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095880" y="274176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I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itte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u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and Dad went to the st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095880" y="2209680"/>
            <a:ext cx="26672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and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3520" y="36576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 AND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 and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3520" y="126540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bby and Jimmy played ba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1798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21798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and Ji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33520" y="368784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OBBY AND JIM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bby and Jim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owers bl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438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24382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likes it when I get all A’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s it when I get all 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e went swimm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swi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UBJECT of a sent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8080" y="2378160"/>
            <a:ext cx="739152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1371600"/>
            <a:ext cx="8229600" cy="121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students do our homework every nigh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867280" y="27432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3520" y="3429000"/>
            <a:ext cx="8229600" cy="33238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stud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their homework every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ula, Sue, and Pat live in Bost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867280" y="220968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a, Sue, and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PAULA, SUE, AND P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la, Sue, and P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ve in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la made a homeru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3520" y="31240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C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de a home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cle Joe plays ball with Sam and 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NCLE J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le Jo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s ball with Sam a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anny gave Ginny a h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A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ave Ginny a h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1219320"/>
            <a:ext cx="739116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990720" y="4024440"/>
            <a:ext cx="7391160" cy="20739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ind the sub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066680"/>
            <a:ext cx="7391520" cy="270432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38080" y="3902040"/>
            <a:ext cx="7391520" cy="27043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for the action word.  Usually, the words in front of the action words in a telling sentence are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2514600"/>
            <a:ext cx="822960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do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’s dad drives the tru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s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’S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’s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rives the tr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 makes a big splas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kes a big spl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gs croa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 grabs his th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35812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bs his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other and I did our home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26668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5880" y="26668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ROTHER AND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other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d ou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18:52:58Z</dcterms:created>
  <dc:creator>Kristen M. Clasen</dc:creator>
  <dc:description/>
  <dc:language>en-US</dc:language>
  <cp:lastModifiedBy>Laura McDow</cp:lastModifiedBy>
  <dcterms:modified xsi:type="dcterms:W3CDTF">2010-07-29T16:32:39Z</dcterms:modified>
  <cp:revision>12</cp:revision>
  <dc:subject/>
  <dc:title>Complete and Incomplete Sentences</dc:title>
</cp:coreProperties>
</file>